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coin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944A-2662-45FF-8C87-14704D2F2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84268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9884-5A09-4893-978E-0CAAF75B8E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84268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2851-6E60-4A7D-98E7-84F633A247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84268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B4BA-E971-409F-9354-5728E9831B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84268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5B16-14B2-4BE5-8EA0-AE1C5233CA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84268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C999-6153-47FD-93B7-09E1EFF6E3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84268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3014-0A9C-4E89-AEB6-D0593E00D0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143-351C-4A33-846F-5BBE0A4B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FD5-F534-458D-BB2C-9565611D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AB3F6-31DB-4A97-B152-020A026B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45649-34C8-474F-97D5-F60FBCD4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BEDDD-A6E3-41D5-8C7A-49EABB93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CB8C1-91AC-4ABB-B737-6350581B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C59AF-5AA0-4CA9-BD1E-C63E5E44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C63B6-D090-44F5-8A49-F1CC9EF9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439AA-5868-44AE-8A27-4A4D79EF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9323F-0536-4397-B73A-20348675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7C44C4-744B-40DF-BDA3-5336A25F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C79DC-6E24-42D1-8BB3-F2A6C773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E76-854D-467E-910B-40D552D5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E990F-59F9-4207-BE28-0BF2C39A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2F769-C06E-44D9-BE96-599A5CE2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1BD15-489A-4D0A-9089-18E193D7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CCE4F-D0F0-42A7-A632-0241FE4A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076BDE-3756-44D8-8C59-10566AE7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525A0-4596-469C-8D7B-26847ADC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F44C7-35A3-4A7B-9FE8-7160C943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07E943-6333-46D4-911E-39BC1EE9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A05FE-18F7-432A-97AA-DD6EF0DC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42B1E-AC31-4C4D-A8D3-ADEEAF1E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88A-2ED1-47FB-B65D-C7E8C31E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5F062-3950-4711-B384-73F1E6CF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EEB3B-B6CC-4DF4-845A-C9C60313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D5244-36E7-416F-8138-54AE0B5A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F30A5-AE0A-4814-BD8B-5788F718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D02D7-FF46-485D-A9A1-3D985A65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6BF56-EC43-4CC5-A820-3952F900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650DE-13BE-4AF6-A98D-5F52EA5E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972D8-1F4C-479D-99B4-B778E71B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6F389-DD8D-432D-BEE5-72AD4E2C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A8A42-71E2-4AF2-89E0-CF3CC37B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61BB-7F5B-4530-9B27-1ED7BA09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B08F2-5D2D-401B-8361-3A93BC34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A2834-468B-412C-B92F-72745943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336D9-7679-4135-89BF-A1945848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39199-1001-4D2C-BFB1-FAACC4B9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FFC64-0F3B-45F5-BFBB-48A824F1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59358-1E6D-4814-BECF-BFF7E4C2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C64E6-17B3-4F9B-8D2A-3ACD7802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2904B-B1A4-4945-B088-6BC2C27B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47141-3F24-4F05-8E80-7AC1A6A8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5701F-10D3-4177-83AC-56B625D0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D073-9468-4248-80C8-33836A76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96F9D-B535-479A-B589-BEFEE061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20033-5723-45B4-AF78-BE00601A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9B25B2-DED0-4FBB-8271-BBFCF22B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909CB-F892-4F9E-8864-9D35E0ED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ECC98-0B71-4956-B38C-97A8C396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AD54-8A9C-498B-A7EC-81324EBA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0F7E-FCCF-452D-BA67-1D782175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D566-D272-4618-8480-FA794587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89EA-88E2-4108-9AC1-68CD71EC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5081-51F4-499A-A0B2-01C1A83D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A9B-C0D7-4324-B265-5E8118C3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0571-58CA-4D57-B914-5E905B31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8B31-01B3-41F8-8BF4-674DC7B9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4336-155D-4CCC-80DD-4E0F16DA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FD93-BBB2-4660-A00A-3AC7BEA4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9D15-B8E0-4CA7-8698-2E985938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64747-9F5D-4C5B-BD9F-E59DD710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7ABAA-A3A0-4E10-923B-25ECA87D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B96FF-8015-4C2C-A374-5DCA8331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E978-4252-486D-85C5-8C12964D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095C3-C6A7-4F85-9C75-3F1EEB94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853-7420-4744-9A14-DE3323C1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A0A1-44C5-4261-9E24-9BAF6929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A890-45E5-4E19-9109-DD1835AF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3A16D-2360-4AC0-9892-8D0A0478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2DEE8-E272-47E2-AC33-30FFF243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4279-BE11-4729-A9EA-69513AD3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89FB-C851-4329-AFB2-884BE20C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63239-E692-473E-9650-9B5C25E6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A7E1F-744C-4555-9D62-4ADC5F81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5BD10-BE87-49EE-B5D0-4BE5C993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01C02-178B-4DC4-91CC-6D769E58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066-FC03-4C8F-98BF-4C918644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AC499-0283-4AE9-87C7-CF4B58A2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182D3-93A4-4A8D-8041-EAA72408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BEED7-41AC-4C0C-BDB7-2E3D9D4B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E2953-8CD2-415A-BC58-93544F36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C6E67-4B40-4BEF-AD5A-00FA4F1A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9A0A2-8A67-4D9E-8862-1882490A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B341F-4202-4C48-87AF-F4855DFC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550C7-6C2C-4955-9135-19139B45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D26A7-3335-41B4-90DC-1665A178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18BBD-D817-492F-9A21-A61FA5E6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5C57-0DF6-496F-B723-B61BE252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95ADB-BB73-493E-8EF2-6AAD3801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5E7D1-D630-4305-8FDB-53591469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C2214-1E38-4481-BEC8-C75B407D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F2B8B-7F7E-4BC4-BE40-452AF2AA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253F9-7585-4A37-9EF4-57BEA00C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53591-EC75-4B5D-8DF1-8FA29B0C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E3C68-7657-4909-8A13-F6459F01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B8FEF-1DDC-4187-A0A3-AF770428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E209C-331C-4E36-BBF8-199F48F4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BED40-33C7-49BC-A3F4-1657EC49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B5B-106A-4489-8667-0C5D992E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93A36-EA01-4926-8CC8-4E0D9164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026AF-4EEA-4750-8A15-A07DCCAD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18F1D-AEB6-417A-8404-90EE16ED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3AD46-BF4C-404C-8E2B-9E74483A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CE847-EA6D-4388-9571-D60D5F02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55AE9-B42E-4060-889E-CDCF16AF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A6CA8-54B4-47C6-B247-B7BC6D71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35A69-08D0-42B7-930F-3EAAC4A8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3B50E-939A-448C-BCE5-0D589EE7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37C2-C6E8-4851-B4C7-49DEB081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2B0-51E7-4516-8A60-807C9940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281B7-B0EF-462F-9464-7E68AAE4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3CE11-0BE3-4D22-8843-A3D7CCB8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DEF71-4027-407C-8538-27C28147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FDA18-49E8-46E4-AEB0-65632820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92136-B7FF-460D-AF87-9D394CB9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B3FE4-2BC7-4DF8-878B-42DC12F9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96D06-6405-4F22-BD7D-02441931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58649-6208-438B-861D-D6F296C3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7A35A-2412-463C-B137-E9937A2B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C2CD3-52AD-4423-B4F3-5E9567FA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AD5-8BA9-46B3-9759-4DBF776F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D92F3-2A65-4B73-8825-CCE0691C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749D9-8525-461C-A3ED-47ADEC6E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094B1-8269-492B-9D3C-B4537589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3CFE2-7004-4D44-88D4-BFB0FB66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86C8A-6EBB-4326-ADA6-A2676BB6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890C7-A2AD-4F4E-94B2-D91D2847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FD6F0-C63E-453B-8F51-940988D3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109BD-4530-48D1-9116-385320B9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5E175-708D-4413-955E-E9CB5827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AD6DF-BB7C-4103-AA85-999D6587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27C-ABF0-4A8A-93DC-29FA1F23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9BE7B-9E9C-49B5-ABD7-72D9A0FE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B631D-D589-4457-86F4-8909E57A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C5942-B948-4279-BC8F-77E16AB2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0A7F3-F98E-4A68-BC28-FAA0DF8A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6B7D0-15E9-4182-9BBD-12233EE3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4A60C-9A46-4573-A59A-ECF58116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B46B1-2A09-4095-8A79-08C214CE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27965-3E3C-4500-940F-6B586417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E1BEC-0B4A-4AF7-A18E-E52B2581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B3847-7C3C-4A08-9238-FBC90399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7EB5-A637-4C7E-BA6E-CCA9EB4A7F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BCF6-CEEC-4F45-BC48-4A34E1CAB0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A971-564D-4BE0-A7BC-77E056EB13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A84D-A920-4730-83D5-2BFD322C45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59F1-0A0E-43C6-8CD9-A70B4CB99D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3CEB-F9CF-4B9A-8907-6DA8B42BF9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D491-DA98-4BC2-90FE-487C1C20CC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6A2F-F9B2-48DF-A6AA-9D4FE53630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B603-7485-456A-B485-42BF247C13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6714-8626-45DC-9816-0341E1D11A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2BF3-FA58-486E-B84F-C3F94F224D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F11B-D3CE-4295-94F5-E23EDA4EFE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218960" y="2209680"/>
            <a:ext cx="6933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RONOMS DISJOI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46b86"/>
                </a:solidFill>
                <a:latin typeface="Georgia"/>
              </a:rPr>
              <a:t>CES PRONOMS NE SONT PAS LI</a:t>
            </a:r>
            <a:r>
              <a:rPr b="1" lang="fr-FR" sz="1600" spc="-1" strike="noStrike">
                <a:solidFill>
                  <a:srgbClr val="646b86"/>
                </a:solidFill>
                <a:latin typeface="Georgia"/>
                <a:ea typeface="ＭＳ Ｐ明朝"/>
              </a:rPr>
              <a:t>ÉS À UN VERBE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LS REMPLACENT DES NOMS DE PERSONN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fr-FR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fr-FR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fr-FR" sz="1600" spc="-1" strike="noStrike">
                <a:solidFill>
                  <a:srgbClr val="646b86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onoms Personnel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276360" y="144756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46b86"/>
                </a:solidFill>
                <a:latin typeface="Georgia"/>
              </a:rPr>
              <a:t>DISJOIN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onoms Personnel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1447920" y="2438280"/>
            <a:ext cx="655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U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PRONOMS DISJOINT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ILS REMPLACENT UNIQUEMENT DES NOMS DE PERSONNES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ILS S’UTILISENT POUR RENFORCER CE NOM OU AU LIEU D’UNE PHRASE ENTI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  <a:ea typeface="ＭＳ Ｐ明朝"/>
              </a:rPr>
              <a:t>ÈRE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EX. MOI, JE M’APPELLE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ET TOI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fr-FR" sz="1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fr-FR" sz="1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fr-FR" sz="1000" spc="-1" strike="noStrike">
                <a:solidFill>
                  <a:srgbClr val="646b86"/>
                </a:solidFill>
                <a:latin typeface="Georgi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onoms Personnel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133720" y="762120"/>
            <a:ext cx="6248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9899"/>
                </a:solidFill>
                <a:latin typeface="Georgia"/>
              </a:rPr>
              <a:t>Pronom Personnel</a:t>
            </a:r>
            <a:br>
              <a:rPr sz="2500"/>
            </a:br>
            <a:r>
              <a:rPr b="1" lang="en-US" sz="2500" spc="-1" strike="noStrike">
                <a:solidFill>
                  <a:srgbClr val="7b9899"/>
                </a:solidFill>
                <a:latin typeface="Georgia"/>
              </a:rPr>
              <a:t>Disjoint</a:t>
            </a:r>
            <a:br>
              <a:rPr sz="3000"/>
            </a:b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838080" y="14479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3560" indent="-223560" algn="ctr">
              <a:lnSpc>
                <a:spcPct val="7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100" spc="-1" strike="noStrike">
                <a:solidFill>
                  <a:srgbClr val="000000"/>
                </a:solidFill>
                <a:latin typeface="Georgia"/>
                <a:ea typeface="ＭＳ Ｐ明朝"/>
              </a:rPr>
              <a:t>Ils s’utilisent souvent après les</a:t>
            </a:r>
            <a:r>
              <a:rPr b="0" lang="fr-FR" sz="5100" spc="-1" strike="noStrike">
                <a:solidFill>
                  <a:srgbClr val="000000"/>
                </a:solidFill>
                <a:latin typeface="Georgia"/>
                <a:ea typeface="ＭＳ Ｐ明朝"/>
              </a:rPr>
              <a:t>	</a:t>
            </a:r>
            <a:r>
              <a:rPr b="0" lang="fr-FR" sz="5100" spc="-1" strike="noStrike">
                <a:solidFill>
                  <a:srgbClr val="000000"/>
                </a:solidFill>
                <a:latin typeface="Georgia"/>
                <a:ea typeface="ＭＳ Ｐ明朝"/>
              </a:rPr>
              <a:t>prépositions</a:t>
            </a:r>
            <a:endParaRPr b="0" lang="en-US" sz="5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Text Box 4"/>
          <p:cNvSpPr/>
          <p:nvPr/>
        </p:nvSpPr>
        <p:spPr>
          <a:xfrm flipV="1">
            <a:off x="1295280" y="403596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u viens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</a:rPr>
              <a:t>chez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oi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ap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ès l’écol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3276360" y="144756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46b86"/>
                </a:solidFill>
                <a:latin typeface="Georgia"/>
              </a:rPr>
              <a:t>DISJOIN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onoms Personnel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1447920" y="2438280"/>
            <a:ext cx="655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E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U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276360" y="144756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46b86"/>
                </a:solidFill>
                <a:latin typeface="Georgia"/>
              </a:rPr>
              <a:t>DISJOIN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onoms Personnel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1447920" y="2438280"/>
            <a:ext cx="716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travail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our mon p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ère/ mes pare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endant l’été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e travail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pour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lui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/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eux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ndant l’été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21:41:18Z</dcterms:created>
  <dc:creator>Mr. Smith</dc:creator>
  <dc:description/>
  <dc:language>en-US</dc:language>
  <cp:lastModifiedBy>Viviane Grebert</cp:lastModifiedBy>
  <dcterms:modified xsi:type="dcterms:W3CDTF">2011-11-21T22:02:11Z</dcterms:modified>
  <cp:revision>90</cp:revision>
  <dc:subject/>
  <dc:title>Allez, viens! – Level 2</dc:title>
</cp:coreProperties>
</file>